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60.jpeg" ContentType="image/jpeg"/>
  <Override PartName="/ppt/media/image3.jpeg" ContentType="image/jpeg"/>
  <Override PartName="/ppt/media/image38.jpeg" ContentType="image/jpeg"/>
  <Override PartName="/ppt/media/image64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51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65.jpeg" ContentType="image/jpeg"/>
  <Override PartName="/ppt/media/image8.jpeg" ContentType="image/jpeg"/>
  <Override PartName="/ppt/media/image21.gif" ContentType="image/gif"/>
  <Override PartName="/ppt/media/image23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22.png" ContentType="image/pn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39.jpeg" ContentType="image/jpeg"/>
  <Override PartName="/ppt/media/image2.gif" ContentType="image/gif"/>
  <Override PartName="/ppt/media/image17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640-7FFE-4E2C-8744-68A5E078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2769-3764-432B-9CFB-4E734C1F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367-B1C5-4790-ACD8-FDFA1A4B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16B-41F6-45C3-B0DF-587EED76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282-F19E-41EE-B623-1AA7B9E4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97C-87B8-4A7B-AA2E-0F93E257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C4E-9461-4A0C-9815-7522234A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F2A0-C5A1-4F23-9191-2B7BD7B6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901-899F-40BE-9D51-A4E57E3A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A19-8BFE-4456-A34F-29D8D8F7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63A-3C88-4C29-B96C-3F8C90B2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717-E77A-4B10-B82F-9CCBBFD8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42D3-7E1C-4AFA-A650-345F2D12F0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smajliki.ru/smilie-505439943.html" TargetMode="External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hyperlink" Target="http://smajliki.ru/smilie-505439943.html" TargetMode="External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4920" y="3789000"/>
            <a:ext cx="525636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Я не знаю, кому и зачем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ж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послал их на смер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дрожащей ру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так бесполез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зло и не ну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ускали их в вечный покой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00000" y="1125360"/>
            <a:ext cx="741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Афганская войн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pic>
        <p:nvPicPr>
          <p:cNvPr id="43" name="Picture 5" descr="j0236357"/>
          <p:cNvPicPr/>
          <p:nvPr/>
        </p:nvPicPr>
        <p:blipFill>
          <a:blip r:embed="rId1"/>
          <a:stretch/>
        </p:blipFill>
        <p:spPr>
          <a:xfrm>
            <a:off x="6804000" y="4221000"/>
            <a:ext cx="1481040" cy="201636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2916360" y="2637000"/>
            <a:ext cx="3384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1979 - 198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«Горячая точка» на ка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hafiz1980-87"/>
          <p:cNvPicPr/>
          <p:nvPr/>
        </p:nvPicPr>
        <p:blipFill>
          <a:blip r:embed="rId1"/>
          <a:stretch/>
        </p:blipFill>
        <p:spPr>
          <a:xfrm>
            <a:off x="179280" y="1413000"/>
            <a:ext cx="3754440" cy="2070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http://s5.rimg.info/ad96531231fb3597bff8d7ebb77d52fa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5229360"/>
            <a:ext cx="3097080" cy="136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"/>
          <p:cNvPicPr/>
          <p:nvPr/>
        </p:nvPicPr>
        <p:blipFill>
          <a:blip r:embed="rId4"/>
          <a:stretch/>
        </p:blipFill>
        <p:spPr>
          <a:xfrm>
            <a:off x="4067280" y="1413000"/>
            <a:ext cx="4789440" cy="3913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http://s5.rimg.info/ad96531231fb3597bff8d7ebb77d52fa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71640" y="4724280"/>
            <a:ext cx="3097440" cy="1363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"/>
          <p:cNvSpPr/>
          <p:nvPr/>
        </p:nvSpPr>
        <p:spPr>
          <a:xfrm>
            <a:off x="611280" y="450864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Афганистане огромная роль принадлежит религии. Ислам – часть культуры и образа жизни его нар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B01D5E33-257E-4D4A-99B2-CDFFBECF01E9_mw800_s"/>
          <p:cNvPicPr/>
          <p:nvPr/>
        </p:nvPicPr>
        <p:blipFill>
          <a:blip r:embed="rId1"/>
          <a:stretch/>
        </p:blipFill>
        <p:spPr>
          <a:xfrm>
            <a:off x="1835280" y="476280"/>
            <a:ext cx="5321160" cy="39909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611280" y="1890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йска оказались втянутыми в гражданскую войну между афганскими войсками и моджахе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457440" cy="251928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83" name="Picture 12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600720" cy="25416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84" name="Picture 13" descr=""/>
          <p:cNvPicPr/>
          <p:nvPr/>
        </p:nvPicPr>
        <p:blipFill>
          <a:blip r:embed="rId3"/>
          <a:stretch/>
        </p:blipFill>
        <p:spPr>
          <a:xfrm>
            <a:off x="539640" y="4292640"/>
            <a:ext cx="3600720" cy="22986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85" name="Picture 14" descr=""/>
          <p:cNvPicPr/>
          <p:nvPr/>
        </p:nvPicPr>
        <p:blipFill>
          <a:blip r:embed="rId4"/>
          <a:stretch/>
        </p:blipFill>
        <p:spPr>
          <a:xfrm>
            <a:off x="4643280" y="4292640"/>
            <a:ext cx="4032360" cy="23209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1063815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273528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sp>
        <p:nvSpPr>
          <p:cNvPr id="87" name="Text Box 6"/>
          <p:cNvSpPr/>
          <p:nvPr/>
        </p:nvSpPr>
        <p:spPr>
          <a:xfrm>
            <a:off x="3276720" y="4365720"/>
            <a:ext cx="586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2"/>
          <a:stretch/>
        </p:blipFill>
        <p:spPr>
          <a:xfrm>
            <a:off x="5003640" y="620640"/>
            <a:ext cx="3745080" cy="2421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076720" y="3500280"/>
            <a:ext cx="3888000" cy="28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м было всего 18,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гда и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звали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лужи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ак жаль, что погибли ребята,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торым хотелось пожить.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0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4322880" cy="28843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476280"/>
            <a:ext cx="40384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бийство из засады стало самым прибыльным бизнесом для простого афга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826920" y="3510000"/>
            <a:ext cx="3384720" cy="292104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94" name="Picture 9" descr="Рисунок2_0"/>
          <p:cNvPicPr/>
          <p:nvPr/>
        </p:nvPicPr>
        <p:blipFill>
          <a:blip r:embed="rId2"/>
          <a:stretch/>
        </p:blipFill>
        <p:spPr>
          <a:xfrm>
            <a:off x="826920" y="404640"/>
            <a:ext cx="3322800" cy="273708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2274840" cy="336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war"/>
          <p:cNvPicPr/>
          <p:nvPr/>
        </p:nvPicPr>
        <p:blipFill>
          <a:blip r:embed="rId1"/>
          <a:stretch/>
        </p:blipFill>
        <p:spPr>
          <a:xfrm>
            <a:off x="611280" y="1628640"/>
            <a:ext cx="7619760" cy="417204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ой вернулись письма и портре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нем мальчишка, нет – теперь мужч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9280" y="3212640"/>
            <a:ext cx="4284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едевших мам и пап все мень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они уходят в мир и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сынок в граните оста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ается вечно  мол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249800" cy="24480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100" name="Picture 19" descr="B6-Arsenov-4"/>
          <p:cNvPicPr/>
          <p:nvPr/>
        </p:nvPicPr>
        <p:blipFill>
          <a:blip r:embed="rId2"/>
          <a:stretch/>
        </p:blipFill>
        <p:spPr>
          <a:xfrm>
            <a:off x="468360" y="3357720"/>
            <a:ext cx="3887640" cy="31143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101" name="Picture 21" descr=""/>
          <p:cNvPicPr/>
          <p:nvPr/>
        </p:nvPicPr>
        <p:blipFill>
          <a:blip r:embed="rId3"/>
          <a:stretch/>
        </p:blipFill>
        <p:spPr>
          <a:xfrm>
            <a:off x="4932360" y="404640"/>
            <a:ext cx="3809880" cy="24480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Через горнило Афганской войны прошли сотни тысяч советских вои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2808360" cy="21099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104" name="Picture 10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3888000" cy="25923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611280" y="1413000"/>
            <a:ext cx="3889440" cy="233208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106" name="Picture 14" descr=""/>
          <p:cNvPicPr/>
          <p:nvPr/>
        </p:nvPicPr>
        <p:blipFill>
          <a:blip r:embed="rId4"/>
          <a:stretch/>
        </p:blipFill>
        <p:spPr>
          <a:xfrm>
            <a:off x="684360" y="4076640"/>
            <a:ext cx="3598560" cy="22986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jyh8lj64YM"/>
          <p:cNvPicPr/>
          <p:nvPr/>
        </p:nvPicPr>
        <p:blipFill>
          <a:blip r:embed="rId1"/>
          <a:stretch/>
        </p:blipFill>
        <p:spPr>
          <a:xfrm>
            <a:off x="250920" y="1484280"/>
            <a:ext cx="5740200" cy="291168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sp>
        <p:nvSpPr>
          <p:cNvPr id="108" name="Text Box 6"/>
          <p:cNvSpPr/>
          <p:nvPr/>
        </p:nvSpPr>
        <p:spPr>
          <a:xfrm>
            <a:off x="250920" y="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потеряли убитыми 13833 человек, ранеными и искалеченными - 49985, пленными и пропавшими без вести - 3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5364000" y="4232160"/>
            <a:ext cx="3529080" cy="24195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2187031_b2e2c001"/>
          <p:cNvPicPr/>
          <p:nvPr/>
        </p:nvPicPr>
        <p:blipFill>
          <a:blip r:embed="rId1"/>
          <a:stretch/>
        </p:blipFill>
        <p:spPr>
          <a:xfrm>
            <a:off x="250920" y="404640"/>
            <a:ext cx="4286160" cy="31719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111" name="Picture 6" descr="14555297"/>
          <p:cNvPicPr/>
          <p:nvPr/>
        </p:nvPicPr>
        <p:blipFill>
          <a:blip r:embed="rId2"/>
          <a:stretch/>
        </p:blipFill>
        <p:spPr>
          <a:xfrm>
            <a:off x="4140360" y="3860640"/>
            <a:ext cx="4762440" cy="26193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92360" y="14130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 вдале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бя уж н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бо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знать потер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бя уж н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я не вер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ет теб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смыт твой сле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images14"/>
          <p:cNvPicPr/>
          <p:nvPr/>
        </p:nvPicPr>
        <p:blipFill>
          <a:blip r:embed="rId1"/>
          <a:stretch/>
        </p:blipFill>
        <p:spPr>
          <a:xfrm>
            <a:off x="611280" y="1341360"/>
            <a:ext cx="2340000" cy="33847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slow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На линии ог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"/>
          <p:cNvPicPr/>
          <p:nvPr/>
        </p:nvPicPr>
        <p:blipFill>
          <a:blip r:embed="rId1"/>
          <a:stretch/>
        </p:blipFill>
        <p:spPr>
          <a:xfrm>
            <a:off x="5508720" y="1700280"/>
            <a:ext cx="2889000" cy="41767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114" name="Picture 15" descr=""/>
          <p:cNvPicPr/>
          <p:nvPr/>
        </p:nvPicPr>
        <p:blipFill>
          <a:blip r:embed="rId2"/>
          <a:stretch/>
        </p:blipFill>
        <p:spPr>
          <a:xfrm>
            <a:off x="755640" y="3933720"/>
            <a:ext cx="4032360" cy="268128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115" name="Picture 17" descr=""/>
          <p:cNvPicPr/>
          <p:nvPr/>
        </p:nvPicPr>
        <p:blipFill>
          <a:blip r:embed="rId3"/>
          <a:stretch/>
        </p:blipFill>
        <p:spPr>
          <a:xfrm>
            <a:off x="800280" y="1328760"/>
            <a:ext cx="3987720" cy="23544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91_2"/>
          <p:cNvPicPr/>
          <p:nvPr/>
        </p:nvPicPr>
        <p:blipFill>
          <a:blip r:embed="rId1"/>
          <a:stretch/>
        </p:blipFill>
        <p:spPr>
          <a:xfrm>
            <a:off x="539640" y="549360"/>
            <a:ext cx="3529080" cy="35290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117" name="Picture 6" descr="dra_1984_vcherashnie_shkolniki"/>
          <p:cNvPicPr/>
          <p:nvPr/>
        </p:nvPicPr>
        <p:blipFill>
          <a:blip r:embed="rId2"/>
          <a:stretch/>
        </p:blipFill>
        <p:spPr>
          <a:xfrm>
            <a:off x="4572000" y="3006720"/>
            <a:ext cx="4216320" cy="35622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slow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2254320" cy="26640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120" name="Picture 9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3337200" cy="25038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121" name="Picture 11" descr=""/>
          <p:cNvPicPr/>
          <p:nvPr/>
        </p:nvPicPr>
        <p:blipFill>
          <a:blip r:embed="rId3"/>
          <a:stretch/>
        </p:blipFill>
        <p:spPr>
          <a:xfrm>
            <a:off x="4932360" y="692280"/>
            <a:ext cx="3422520" cy="24192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5867280" y="3789360"/>
            <a:ext cx="2076480" cy="25239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Дома нас ждут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62480" cy="32781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125" name="Picture 9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310200" cy="432108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Никто кроме 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743280" cy="25480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129" name="Picture 9" descr=""/>
          <p:cNvPicPr/>
          <p:nvPr/>
        </p:nvPicPr>
        <p:blipFill>
          <a:blip r:embed="rId2"/>
          <a:stretch/>
        </p:blipFill>
        <p:spPr>
          <a:xfrm>
            <a:off x="5219640" y="4149720"/>
            <a:ext cx="3240000" cy="245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3840120" cy="247824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131" name="Picture 11" descr=""/>
          <p:cNvPicPr/>
          <p:nvPr/>
        </p:nvPicPr>
        <p:blipFill>
          <a:blip r:embed="rId4"/>
          <a:stretch/>
        </p:blipFill>
        <p:spPr>
          <a:xfrm>
            <a:off x="4859280" y="1268280"/>
            <a:ext cx="3745080" cy="24717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3640" y="11970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ня у Джелалаб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ыскало письмец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над парнем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мпад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а белое лиц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нет зыбко, станет лип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тчем доме у раки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ма, это НЕ ошиб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действительно УБИ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581360" cy="35910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arfuv_fevral3_1"/>
          <p:cNvPicPr/>
          <p:nvPr/>
        </p:nvPicPr>
        <p:blipFill>
          <a:blip r:embed="rId1"/>
          <a:stretch/>
        </p:blipFill>
        <p:spPr>
          <a:xfrm>
            <a:off x="1258920" y="2205000"/>
            <a:ext cx="6667560" cy="378144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sp>
        <p:nvSpPr>
          <p:cNvPr id="135" name="Text Box 5"/>
          <p:cNvSpPr/>
          <p:nvPr/>
        </p:nvSpPr>
        <p:spPr>
          <a:xfrm>
            <a:off x="684360" y="54936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Нельзя забывать о солдатах этой войн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836954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663cbb1dc83a5a5155ec7552faa_prev"/>
          <p:cNvPicPr/>
          <p:nvPr/>
        </p:nvPicPr>
        <p:blipFill>
          <a:blip r:embed="rId1"/>
          <a:stretch/>
        </p:blipFill>
        <p:spPr>
          <a:xfrm>
            <a:off x="1763640" y="2205000"/>
            <a:ext cx="5619960" cy="368604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sp>
        <p:nvSpPr>
          <p:cNvPr id="138" name="Text Box 5"/>
          <p:cNvSpPr/>
          <p:nvPr/>
        </p:nvSpPr>
        <p:spPr>
          <a:xfrm>
            <a:off x="1258920" y="549360"/>
            <a:ext cx="662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 февраля 1989 года землю Афганистана покинул последний советский солд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AF8937BA-957B-41D3-9F9B-90297220E0D1_mw800_mh600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611280" y="33336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амяти всех воинов-интернационалистов, прошедших дорогами Афганистана, посвящает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images15"/>
          <p:cNvPicPr/>
          <p:nvPr/>
        </p:nvPicPr>
        <p:blipFill>
          <a:blip r:embed="rId1"/>
          <a:stretch/>
        </p:blipFill>
        <p:spPr>
          <a:xfrm>
            <a:off x="2195640" y="2060640"/>
            <a:ext cx="482436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1978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фганистане произошел переворот, к власти приш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коммунист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ская Народн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мократиче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тия Афганист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.Сопроти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стам возглавили исламис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oni1"/>
          <p:cNvPicPr/>
          <p:nvPr/>
        </p:nvPicPr>
        <p:blipFill>
          <a:blip r:embed="rId1"/>
          <a:stretch/>
        </p:blipFill>
        <p:spPr>
          <a:xfrm>
            <a:off x="4356000" y="2133720"/>
            <a:ext cx="4445280" cy="31366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Борцы за веру - моджах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3887640" cy="263988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55" name="Picture 9" descr=""/>
          <p:cNvPicPr/>
          <p:nvPr/>
        </p:nvPicPr>
        <p:blipFill>
          <a:blip r:embed="rId2"/>
          <a:stretch/>
        </p:blipFill>
        <p:spPr>
          <a:xfrm>
            <a:off x="684360" y="1125360"/>
            <a:ext cx="3456000" cy="26337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56" name="Picture 10" descr="D:\Афганистан - ты боль моей души\taliban_fighters.jpg"/>
          <p:cNvPicPr/>
          <p:nvPr/>
        </p:nvPicPr>
        <p:blipFill>
          <a:blip r:embed="rId3"/>
          <a:stretch/>
        </p:blipFill>
        <p:spPr>
          <a:xfrm>
            <a:off x="755640" y="4098960"/>
            <a:ext cx="3384720" cy="242424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57" name="Picture 15" descr=""/>
          <p:cNvPicPr/>
          <p:nvPr/>
        </p:nvPicPr>
        <p:blipFill>
          <a:blip r:embed="rId4"/>
          <a:stretch/>
        </p:blipFill>
        <p:spPr>
          <a:xfrm>
            <a:off x="4716360" y="4076640"/>
            <a:ext cx="3959280" cy="24145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1979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од Ограниченного контингента советских войск в Афгани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759280" cy="39499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6012000" y="170028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/>
          <p:cNvPicPr/>
          <p:nvPr/>
        </p:nvPicPr>
        <p:blipFill>
          <a:blip r:embed="rId1"/>
          <a:stretch/>
        </p:blipFill>
        <p:spPr>
          <a:xfrm>
            <a:off x="539640" y="880920"/>
            <a:ext cx="3745080" cy="25923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64" name="Picture 13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557520" cy="258624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65" name="Picture 4" descr="D:\Афганистан - ты боль моей души\issue_317_10_14.jpg"/>
          <p:cNvPicPr/>
          <p:nvPr/>
        </p:nvPicPr>
        <p:blipFill>
          <a:blip r:embed="rId3"/>
          <a:stretch/>
        </p:blipFill>
        <p:spPr>
          <a:xfrm>
            <a:off x="4859280" y="3933720"/>
            <a:ext cx="3529080" cy="23958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66" name="Picture 19" descr=""/>
          <p:cNvPicPr/>
          <p:nvPr/>
        </p:nvPicPr>
        <p:blipFill>
          <a:blip r:embed="rId4"/>
          <a:stretch/>
        </p:blipFill>
        <p:spPr>
          <a:xfrm>
            <a:off x="539640" y="3860640"/>
            <a:ext cx="3718080" cy="24847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468360" y="5493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тский десант выса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толице страны Каб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штурмом взял дворец диктатора Ам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715000" cy="36860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«…наш полк входил в Афга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038480" cy="22921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71" name="Picture 9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2183040" cy="30240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72" name="Picture 10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2952720" cy="21873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73" name="Picture 13" descr=""/>
          <p:cNvPicPr/>
          <p:nvPr/>
        </p:nvPicPr>
        <p:blipFill>
          <a:blip r:embed="rId4"/>
          <a:stretch/>
        </p:blipFill>
        <p:spPr>
          <a:xfrm>
            <a:off x="4500720" y="4005360"/>
            <a:ext cx="3958920" cy="24937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2:32:34Z</dcterms:created>
  <dc:creator>Пользователь</dc:creator>
  <dc:description/>
  <dc:language>en-US</dc:language>
  <cp:lastModifiedBy>Svetlana</cp:lastModifiedBy>
  <dcterms:modified xsi:type="dcterms:W3CDTF">2023-04-19T18:25:12Z</dcterms:modified>
  <cp:revision>13</cp:revision>
  <dc:subject/>
  <dc:title>В1979 - 1989</dc:title>
</cp:coreProperties>
</file>